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.png" ContentType="image/png"/>
  <Override PartName="/ppt/media/image8.jpeg" ContentType="image/jpeg"/>
  <Override PartName="/ppt/media/image13.jpeg" ContentType="image/jpeg"/>
  <Override PartName="/ppt/media/arrow.wav" ContentType="audio/x-wav"/>
  <Override PartName="/ppt/media/image10.png" ContentType="image/png"/>
  <Override PartName="/ppt/media/image6.jpeg" ContentType="image/jpeg"/>
  <Override PartName="/ppt/media/applaus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A67-360A-4026-8250-EC69260F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212-57F7-41F9-8DB8-AFBC551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101-DAC8-4258-8249-E9A188AF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3C3-1EF8-485E-B9AA-9E230470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8A2-FF2F-4A70-9F0A-B776545D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889A-9C64-4693-A5BB-0ACB5E65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104F-036C-48C9-9E5C-EDCFA8D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5CC-3199-42BA-96E7-A90C9268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8470-55C8-40A5-8E99-5C61DA7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C619-781B-461F-A65A-6ACE7CF2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3657-187B-43F2-B3CB-14C9B09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7DA-DE3F-4254-B882-5299154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C5E-EE93-47E7-AE45-E168F95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80FE-9C60-4042-8AEB-EC07243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FA0D-A923-4E68-A430-5221718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96AF-F267-4D08-B785-171E2101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95A3-2DB2-4746-97B2-2376165F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934-25AB-4B77-805F-26CE94E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294-6819-4D25-9C62-9973DD9C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4C9-7320-4C2B-B465-B1EF0596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D41-FCB7-455A-AC91-489894BC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AF7-C90F-440B-B5E7-2CCDC28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88E-58F8-410C-9A2D-C964AF3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083-18F6-443E-9DF2-C054043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21BE-41F3-45B5-9EF8-5E92911D04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D547-5AFA-4396-9DDE-6569518260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lways_in_russia" TargetMode="External"/><Relationship Id="rId2" Type="http://schemas.openxmlformats.org/officeDocument/2006/relationships/hyperlink" Target="http://en.wikipedia.org/wiki/Railways_in_russia" TargetMode="External"/><Relationship Id="rId3" Type="http://schemas.openxmlformats.org/officeDocument/2006/relationships/hyperlink" Target="http://en.wikipedia.org/Russian_Railways" TargetMode="External"/><Relationship Id="rId4" Type="http://schemas.openxmlformats.org/officeDocument/2006/relationships/hyperlink" Target="http://en.wikipedia.org/Russian_Railways" TargetMode="External"/><Relationship Id="rId5" Type="http://schemas.openxmlformats.org/officeDocument/2006/relationships/hyperlink" Target="http://en.wikipedia.org/wiki/Rail_transport_in_Russia" TargetMode="External"/><Relationship Id="rId6" Type="http://schemas.openxmlformats.org/officeDocument/2006/relationships/hyperlink" Target="https://www.cia.gov/library/publications/the-world-factbook/geos/rs.html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8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alibri"/>
              </a:rPr>
              <a:t>Did you kn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ussia has the fifth most airports in the world, with 1,213 airports in tota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also 50 heliport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593 airports with paved runways, and 620 with unpaved runway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pipelines in Russia that transport things like fue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4097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Boehm, Richard G., Armstrong, David G., Hunkins, Francais P., et all.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Geography:The World and Its People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Columbus, Ohio: Glencoe, McGraw Hill, 200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; List of Railway Lines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23 October 2010. 15 November 2010. &lt;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2"/>
              </a:rPr>
              <a:t>en.wikipedia.org/wiki/Railways_in_russia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.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ussian Railways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5 December 2010. 15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4"/>
              </a:rPr>
              <a:t>en.wikipedia.org/Russian_Railway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Wikipedia: Rail Transport in Russia.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16 December 2010. 20 December 201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en.wikipedia.org/wiki/Rail_transport_in_Russia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</a:rPr>
              <a:t>CIA: The World Factbook. 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13 December 2010. 20 December 2010. 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Calibri"/>
                <a:hlinkClick r:id="rId6"/>
              </a:rPr>
              <a:t>https://www.cia.gov/library/publications/the-world-factbook/geos/rs.html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92960" y="3455280"/>
            <a:ext cx="7566840" cy="24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66"/>
                </a:solidFill>
                <a:latin typeface="Rage Italic"/>
              </a:rPr>
              <a:t>Thanks For Watching! </a:t>
            </a:r>
            <a:r>
              <a:rPr b="1" i="1" lang="en-US" sz="88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nsport and how the Russian people solved these probl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4600" y="4400640"/>
            <a:ext cx="40021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- Waterways In Russ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I- Seaports In Russi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II- Railways In Russ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V-Roadways in Russ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- Did You K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I- Bibliograp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Water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Waterways in Russia allow boats to travel to different places i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Russia. For example, there are rivers like the Volga River, O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River, and the Lena River. Seas and oceans that border Russ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include the Baltic Sea, Sea of Okhotsk, Bering Sea, and the Arct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Ocean. Russia has the second largest waterway system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in the world, with 102,000 km or waterw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333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 are seven major seapor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 Russia. -Kaliningrad-St. Petersbur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khotsk-Murmansk-Vladivosto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strakhan-Petropavlovsk Kamchatsk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 problem with these ports i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at they are spaced far apart from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each other. Ships have to travel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another 200 miles to get the mo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nland part of Russia, w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aliningrad is located. Then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shippers have the choice 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ravel another 500 miles to the por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of St. Petersburg. This consum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lots of time, fuel, and therefo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ney. However, taxes have bee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cut for foreign goods coming in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Kaliningrad, saving money,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possibly increasing trad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 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(continued)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Another problem happening in these ports i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hat ports have ice or frost at some point of the yea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n fact, there is permafrost, soil that stays be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reezing point, or  zero degrees Celsius, fro two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more years. Permafrost delays mining, an importa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art of Russia’s economy. Ice in the seaports prev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he movement of boats, so  a special purpose boat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hip called a icebreaker is used to separate the i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ilways in Russia account for  2.5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% percent of Russia’s GDP, o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Gross Domestic Produc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оссийские железные дорог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o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ssian Railways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is mostly state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un. Russian Railways is one of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iggest railway companies in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orld, with 0.95 million employe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a monopoly within it. In fact,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otal length of the line is 85,000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ilometers (53,130 miles), onl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urpassed by the United Stat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ilway syst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RussianRailways.png"/>
          <p:cNvPicPr/>
          <p:nvPr/>
        </p:nvPicPr>
        <p:blipFill>
          <a:blip r:embed="rId2"/>
          <a:stretch/>
        </p:blipFill>
        <p:spPr>
          <a:xfrm>
            <a:off x="5181480" y="1219320"/>
            <a:ext cx="238140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 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(continued)</a:t>
            </a:r>
            <a:endParaRPr b="1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. In 2007, 1.3 billion passengers and 1.3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billion tons of freight went via Russian Railway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2007 the company owned 19,700 goods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enger locomotives, 24,200 passenger car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arriages) (2007) and 526,900 freight cars (good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agons) (2007). A further 270,000 freight cars i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ssia are privately owned.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Some importan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ailroads include the Trans- Siberian Railroad,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Kaliningrad Railway, and The Northern Railway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There are industrial railways aside from the comm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rrier railways (railways that passenger trai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follow). Industrial railways are about half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ength of common carrier railroads as of 2008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oad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361960"/>
            <a:ext cx="769320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oadways allow cars to travel from place to place. Russia has the eight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longest roadway system in the world, with a total of 940,000 kilometers of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roadways. There are 754,000 km of paved roads, and 186,000 km of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unpaved roads. In the winter, black ice can form on the roads, caus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cars to lose control and crash, so cars are built to withstand win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weather.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Han</cp:lastModifiedBy>
  <dcterms:modified xsi:type="dcterms:W3CDTF">2010-12-21T02:16:08Z</dcterms:modified>
  <cp:revision>51</cp:revision>
  <dc:subject/>
  <dc:title> </dc:title>
</cp:coreProperties>
</file>